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0367-0EFB-482E-8B4F-673113140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94C2-CFC2-43BD-85AA-151BC713D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88C2-78B1-44E6-AA33-7FD5CCE7A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9167-D658-473B-BECF-433811889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074B-BB8A-497B-9FA3-61B9F3E8FB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64DB-149A-410B-9791-63879FCC65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5F2B-00E8-4132-B8FE-BF8DCAAB4C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7FC5-BA36-459D-A4B9-72555E1727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9612-5BA4-413B-9A29-38C07BE831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7DC2-88C5-4B6A-888F-A4BDBC55EF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FEC0-F7FB-4ACE-A85D-F1A148FA5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3E85-D87A-456C-9C2B-634C48763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FB38-01C3-4BA8-BC8A-2D30B67090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5B38-5E71-4723-B351-F65A7FFDC3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F4E8-267F-4C0D-A42C-3557CBC063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1CFD0-E04B-47C7-9D82-B15A833932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91D8-B58D-4726-9FD0-196F2400D5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D5C21-0698-4D5A-8127-AEA088582C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94DA3-54CF-485B-B4FB-4F060D52B3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3CE5C-9572-4B7E-8A36-4AEC388043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4B089-2DCC-48FC-8D6D-D621BD2166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CE2FF-35F5-4CDE-9BAC-EB848A3FF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731E-F1AE-4779-81EE-FF0D2C03FE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62C81-6C5C-4A01-9330-9CC86C0F5F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AB45D-1796-4F19-8EF9-BEEF891B5A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8EA21-2C81-4DCD-BF2E-CE5FFF1EDA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3A977-DCA9-40AE-A7FB-9C8D8AF737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B6CA1-F4F2-4450-9C6F-FDA6078479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119D0-D90B-4509-BB14-E69F82284E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064D2-644A-4B70-8734-0409EE6A3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393B-0594-437F-89E3-ABD0052AB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A0E9-D5EB-4B11-9FBE-94CDCC043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D33A-75C1-4A3A-882D-BBE9B3B59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04B6-0817-400D-9441-832DB899F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325D-3DC6-4790-93A0-26D003F87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63DD-D370-4302-B8A7-1EDE75593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8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39C8-385F-4B70-86B4-642D13FCBBDF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15640" y="2852280"/>
            <a:ext cx="7559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258560" y="4365360"/>
            <a:ext cx="748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58920" y="537372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925560" y="1965600"/>
            <a:ext cx="287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-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1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6237360"/>
            <a:ext cx="81010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9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136E-DBEB-4272-A9CE-01A33FE8852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332000" y="6237000"/>
            <a:ext cx="54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eam Building and Leadersh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UROMPM as a Pro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1" marL="363960" indent="-140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2" marL="5598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3" marL="78408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4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5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6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Team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5912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945360" y="1957320"/>
            <a:ext cx="29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822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9A88-B540-45E5-BD42-B6352D53E4D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1332000" y="6237000"/>
            <a:ext cx="51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eam Building and Leadersh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EUROMPM as A Pro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Team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945360" y="1945800"/>
            <a:ext cx="29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irtschaft.fh-dortmund.de/eurompm/Webportal_EuroMPM-Dateien/eurompm20081schedule.html" TargetMode="External"/><Relationship Id="rId2" Type="http://schemas.openxmlformats.org/officeDocument/2006/relationships/hyperlink" Target="http://www.wirtschaft.fh-dortmund.de/eurompm/Webportal_EuroMPM-Dateien/eurompm20081schedule.html" TargetMode="External"/><Relationship Id="rId3" Type="http://schemas.openxmlformats.org/officeDocument/2006/relationships/hyperlink" Target="http://www.wirtschaft.fh-dortmund.de/eurompm/Webportal_EuroMPM-Dateien/eurompm20081schedule.html" TargetMode="External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urompm.net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hyperlink" Target="http://en.wikipedia.org/wiki/Team_building" TargetMode="External"/><Relationship Id="rId4" Type="http://schemas.openxmlformats.org/officeDocument/2006/relationships/hyperlink" Target="http://en.wikipedia.org/wiki/Project" TargetMode="External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4076280"/>
            <a:ext cx="69120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uropean Master In Project Managem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692360" y="515736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eam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476360" y="260280"/>
            <a:ext cx="69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UROMPM AS A PROJ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42498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rnational Master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eaper Master course study compared with similar Master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bit longer compared with other Master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opportunities because every students need to spend at least one semester in Partner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nteresting general modules and interesting specialization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s full English, considering that English is really an internation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ies to have contact with some expertise from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 cost in Europe is not so high compared with America as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Master course, because specialize in 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ABF33-C119-44AA-AD6D-F0C1B8F9BE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uroMPM is focused on the growing demand for project management qualification in all industries as well as in public administ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uroMPM offers an advanced concept to meet the requirements of project management today and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on projects is a core concept of the study course – from small case studies at the beginning of the course up to the integration into professional projects in semester 3 and probably in semesters 4, if the master will be developed embedded in or linked to a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65B50-DDAE-4B74-B0BB-A1F582A2C4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561080" cy="511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Manag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er Reusch (Dire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stant Project Manag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no Schönberg (Vice-Dire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ctu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Lectur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 Lectur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H Dortm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Univers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MPM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 and the Vice-Director are members of the international steering committee of the EuroMP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teering group of the EuroMPM consisting of staff and students of the EuroMPM in Dortmund – 4 lecturers including the director and the vice-director and 2 studen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man of the steering group is the director of the study course or the vice-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E96FF-7B78-4275-B33A-A1C4925332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on Time (4 Semesters) with goo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iar with real work situations (especially in Eur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relationship with new friends from different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relationship with some companies, or some 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lds us to be better, qualified and certified  project managers of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students to get familiar a with project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ble to create, manage and handle simple and complex 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us to be familiar with working as a team or an individ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pportunity to study with others from varied backgr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munication, leadership, team building, conflict management and social competencies are core components of the EuroMPM which is emphas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42A3A-A44A-4073-A5FC-796010AE4C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57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me of the courses will be based on weekly sessions, others will be based on coherent blocks of d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examinations will be organized by the teaching staff – brought into agreement with the examination bo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exchange to and from other partners of the consortium will be coordinated by the director or vice-director of the study course – supported by organizational staf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s for the exchange of students will by established and enhanced by the steering committee of the consort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eering committee will also develop new strategies and concepts for the EuroM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020000" y="2133720"/>
          <a:ext cx="191772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2133720"/>
                    <a:ext cx="191772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564E8-3A3D-4770-BC27-D081CA5546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Breakdow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835280" y="2276640"/>
          <a:ext cx="626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76640"/>
                    <a:ext cx="626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91D8F-4CBA-4B4E-A7C7-96557FAB0B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important information on EuroMPM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n Open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eminar/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7B6D4-FB01-4F02-92FE-8CB0074067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Planning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76360" y="2349360"/>
          <a:ext cx="734364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49360"/>
                    <a:ext cx="734364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904E4-A750-4B74-A204-A02EE5A30E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Planning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mple weekly schedul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uroMP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planning from 1 Semester – 4 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403280" y="2708280"/>
          <a:ext cx="7056360" cy="3289320"/>
        </p:xfrm>
        <a:graphic>
          <a:graphicData uri="http://schemas.openxmlformats.org/drawingml/2006/table">
            <a:tbl>
              <a:tblPr/>
              <a:tblGrid>
                <a:gridCol w="1656000"/>
                <a:gridCol w="5400360"/>
              </a:tblGrid>
              <a:tr h="380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MESTER EXA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16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 SEMESTER (BEGINN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SEMESTER EXA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MESTER (BEGENNING) AT A PARTNER UN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1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MESTER (FINAL THESIS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LOS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AFF53-15E8-440B-A8A5-263195242C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Planning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1584360" cy="10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8B882-0B8D-4692-8866-2629FDA65E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5596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19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2920" y="1773360"/>
            <a:ext cx="748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roMPM at glance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roMPM as a Projec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rrelation with Team Building and Leadership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6AB5-FCE0-47E2-9A4C-2D5DE0EEE7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Planning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ttendance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ies to cover th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of stopping studies for various reas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ma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ocus in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balance tim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ma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871FB-B788-483D-9C97-B0E284F895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EuroMPM as a Project – Realisation Phase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some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g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modules and standards (PM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PM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ry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ar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 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cturer        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s       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3640" y="566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3640" y="595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0A527-CDDA-4B92-84DC-32483DD4F3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EuroMPM as a Project – Realisation Phase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ing &amp;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special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3058B-F638-43EE-A21A-340961BB4D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Closing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Semes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tudents gradu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all docu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from mist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37469-BD01-4500-AB1C-32D5A8B113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Correlation with Team Building &amp; Leadership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Building and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 buil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nerally refers to the selection, development, and collective motivation of result-oriented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ership has been described as the “process of social influence in which one person is able to enlist the aid and support of others in the accomplishment of a common task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lation between EuroMPM &amp; Team Building and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ject need a leader, in specificall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ood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only nee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ood l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also nee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good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am Building and Leadership we deal with how to be a good leader, how to build a good and solid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Project we deal how to create, manage, and handle a Project. In order to do that, one of that we need Team Building and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44160" y="5996160"/>
            <a:ext cx="251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en.wikipedia.org/wiki/Team_buil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24142-9EE3-4460-92B1-C953F00709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Correlation with Team Building &amp; Leadership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orrelation between EuroMPM &amp; Team Building and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s team members from EuroM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learn how to create such good communication, good relationship, between Lecturer and Students, and also between Students and other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learn how to work in a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learn to appreciate other people’s opi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as a leader for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learn how to manage all our 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manage how to share our time, so we know when we need to study, when we need to do other el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learn how to handle when we have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07E06-4D8D-4302-BBB7-BEAE287EA5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Correlation with Team Building &amp; Leadership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MPM need a leader especially a good Leader, so EuroMPM will achieved their goals. In order to do that, EuroMPM also need a team work, from all stakeholders. In other situation we as students also become a leader for oursel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eam Building and Leadership we learn to contribute something for EuroMPM to create such a good and solid team work, and also learn to become such a good leader for our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eam Building and Leadership we also learn about human behavior, like how we treat  our staff or how to deal when there is a problem with our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 we also need another part so we can really achieve our EuroMPM go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29435-75A5-445F-B82C-6E54753406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Correlation with Team Building &amp; Leadership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Building and Leadership components in EuroM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a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work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ing skill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37F2F-B732-422B-9109-26BAE6DE19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Correlation with Team Building &amp; Leadership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eam Building and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Self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(current strength as a team &amp; weakne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Self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am uses feedback from the team assessment in order to identify any gap between the desired state and the actual state and to develop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90531-F57F-4729-A354-CDC080714B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create, handle, and manage a good Project we need to know and learn about Team Building and Leader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Building and Leadership teaches us to be better person in context our relationship with other people. No matter whether that person is our Supervisor or our Sta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Building and Leadership teaches us how to handle and solve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D6E22-9037-475E-B5C8-F1A5DAF147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Introduction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478640" cy="424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 of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 defined in the field of project management, consists a temporary endeavor undertaken to create a unique product, service or resu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e is start point and en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ited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22520" y="6093000"/>
            <a:ext cx="20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en.wikipedia.org/wiki/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807A1-25ED-4163-9EF0-2F64ABCCB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References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3213000"/>
            <a:ext cx="7885080" cy="23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rompm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Team_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n.wikipedia.org/wiki/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179B3-8BFD-4C6E-8EE5-E20C7E93D1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562040" cy="609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71640" y="2349360"/>
            <a:ext cx="1133640" cy="657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1438200" cy="809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076720" y="4076640"/>
            <a:ext cx="1629000" cy="7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EC0DE-35F8-42CA-90FB-03BA511CE5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t glanc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56108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in 2005 in NTNU Trondheim, and 2006 in FH Dortm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onsortium Program between some Universities in Euro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ster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ECTS (European Credit Transfer and Accumulation System) (Total 3600 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offered for graduates from Business Administration, Business Computing or similar study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Semesters (3 semesters in home University, 1 semester in Partner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L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e (Self, Team Work, and Simul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ional experience  (Site Visit, Excur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59C19-1CC4-409B-84B1-CB9D495082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t glanc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56108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EuroMPM in FH Dortmund  is a full time study course (2 years program course devided in 4 sem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core concept of the EuroMPM is that students start at one institution within the consortium and spend at least one semester at one of the partner institutions within the consort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all universities offering the EuroMPM, the learning outcomes from Semesters 1 and 2 are the same. Students are free to study Semesters 1 and 2 at any of the partner institu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Semester 3, partner universities offer modules reflecting the specialization of the individual institution and the local indus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semester 4 the students will write the master 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8E823-80A2-4DF8-BBC3-0970E62990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t glanc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56108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Main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sentials of Project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Teams and Organ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, Managing Change and Crea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, Finance and Contracts - and Advanced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 Specialization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Management for IT-Projects (Trondhe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(Trondhe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Management in Logistics (Zaragoz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ject (Zaragoz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Management and Quality Management  (Bilb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ject on Quality Management (Bilb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24720" y="530064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7439B-BEFC-40EC-BEAC-ABA67E7DEE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t glanc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graduated students to be an ideal International Project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graduated students familiar with real work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ation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% based on contribution in the cou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% based on written final 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time (120 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time (90 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ay October (Winter Semester) (Admission only in W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 March (Summer Seme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9F46B-B84E-4526-9C51-7CEE268AC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t glanc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uroMPM-version applies various teaching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s are mostly used to introduce concepts, methods and t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work is applied to work on case studies and to collect and present res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work is applied to deal with selected topics and to prepare present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F8841-F89B-434A-95FF-075A3F925E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July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Students + 5 Main Lecturers + Some Guest Le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any Countries from (Asia, Europe, Af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54993-E4C8-498D-8271-E1224606BD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1:28:58Z</dcterms:created>
  <dc:creator>Fachbereich Wirtschaft</dc:creator>
  <dc:description/>
  <dc:language>en-US</dc:language>
  <cp:lastModifiedBy>Student FB Wirtschaft</cp:lastModifiedBy>
  <dcterms:modified xsi:type="dcterms:W3CDTF">2008-12-02T09:20:53Z</dcterms:modified>
  <cp:revision>52</cp:revision>
  <dc:subject/>
  <dc:title>Simulation Methods and Educational Educational Games for Project Management</dc:title>
</cp:coreProperties>
</file>